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FCF7-0CAA-46DD-9522-AF54CFCD3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22A6-DAEF-44B0-9A6E-AED3404451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27B1-092E-4639-947E-BB85AA2D55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5A11-D158-4B09-973A-B7943AD21F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3477-2723-45F6-879F-3FBCC1E5CE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CE49-0E05-4DD1-8472-F9FFF410ED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845F-2FE3-4423-B7F3-FB7B7FEF1F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BCEA-12B0-473E-AA07-8B03341FB5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FCD8-2041-4F83-B36B-EE737840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6718-9F9C-4C26-AE05-1AC82A9F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AD03-7FA4-4FA1-9D78-0CDA26BA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C74C-1E08-4D8A-8631-46A2E4774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B265-0A36-437F-9FD2-F9EF264B2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14C3-1EC9-4B01-AA2D-329D03D5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57DA-8A46-4453-980A-C7864217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1317-F773-449D-A2BA-3713AB6A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AECF-FC55-454C-9F89-E2977832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C05D-728D-4C0C-BC9B-EE1B2E7C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74BE-A956-48B5-A105-0AF8BDA7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BE62-2E72-4529-BC8B-4E83306A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E0CA-A6AF-40A2-808A-289B7A6C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32AC-4163-4688-8150-7C1A3247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5DF8-0EAB-4328-BE4F-CCF6FC43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E55A-F2B9-4C74-8123-349124B3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E8D3-A800-47CD-A735-061FCB96B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5FC7-FB46-4FBA-8181-17F55A3D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E435-40BD-42B6-A8D6-414FEAF3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E83C-530A-4530-9569-26713334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F2C1-AED2-4CEB-A865-6C60A5C7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5082-4B58-45D4-9260-EA8DBD31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4816-E772-4876-8374-0436B5D2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DE0F-A7DE-4B67-ADA8-E7C3EE3A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579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0478-ADC0-4799-9E7F-EEA2210AB2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579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4F4B-7D06-4473-B802-1E2569219D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quivalent Fr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find them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457200" y="14479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valent fractions are fractions that name the same amou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Object 7"/>
          <p:cNvGraphicFramePr/>
          <p:nvPr/>
        </p:nvGraphicFramePr>
        <p:xfrm>
          <a:off x="1523880" y="2362320"/>
          <a:ext cx="5688000" cy="24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362320"/>
                    <a:ext cx="568800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Line 9"/>
          <p:cNvSpPr/>
          <p:nvPr/>
        </p:nvSpPr>
        <p:spPr>
          <a:xfrm>
            <a:off x="1981080" y="586728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5486400" y="586728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2209680" y="48769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2209680" y="585144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3809880" y="524196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5791320" y="495288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5791320" y="577548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ating Equivalent Fr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080" y="1295280"/>
            <a:ext cx="74678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y the numerator and denominator by the same numb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 the numerator and denominator by the same number (it has to be a common factor to work with divis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914400" y="5334120"/>
            <a:ext cx="9144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990720" y="43434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990720" y="52578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4724280" y="3505320"/>
            <a:ext cx="44197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choose any number to multiply by.  Let’s multiply by 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2057400" y="440388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x 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1981080" y="524196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x 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3505320" y="48610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4495680" y="5334120"/>
            <a:ext cx="9144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4648320" y="44197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4419720" y="524196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5943600" y="4724280"/>
            <a:ext cx="28954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, 3/5 is equivalent to 6/1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685800" y="3049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have larger numbers, you can make equivalent fractions using division.  Divide by a common fac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914400" y="2575080"/>
            <a:ext cx="9144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838080" y="158436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838080" y="249876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5486400" y="1600200"/>
            <a:ext cx="31240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example, we can divide both numbers by 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2057400" y="160020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ok Antiqua"/>
              </a:rPr>
              <a:t>÷</a:t>
            </a:r>
            <a:r>
              <a:rPr b="0" lang="en-US" sz="6000" spc="-1" strike="noStrike">
                <a:solidFill>
                  <a:srgbClr val="ffffff"/>
                </a:solidFill>
                <a:latin typeface="MS Shell Dlg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2057400" y="243828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ok Antiqua"/>
              </a:rPr>
              <a:t>÷</a:t>
            </a:r>
            <a:r>
              <a:rPr b="0" lang="en-US" sz="6000" spc="-1" strike="noStrike">
                <a:solidFill>
                  <a:srgbClr val="ffffff"/>
                </a:solidFill>
                <a:latin typeface="MS Shell Dlg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3505320" y="196524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ok Antiqua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1"/>
          <p:cNvSpPr/>
          <p:nvPr/>
        </p:nvSpPr>
        <p:spPr>
          <a:xfrm>
            <a:off x="4267080" y="2438280"/>
            <a:ext cx="9144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4343400" y="15238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4343400" y="242244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5486400" y="3429000"/>
            <a:ext cx="30481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8/35 is equivalent to 4/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actions in Simplest For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533520" y="1447920"/>
            <a:ext cx="807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ctions are in simplest form when the numerator and denominator do not have any common factors besides 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33520" y="259092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 of fractions that are in simplest for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990720" y="4191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6"/>
          <p:cNvSpPr/>
          <p:nvPr/>
        </p:nvSpPr>
        <p:spPr>
          <a:xfrm>
            <a:off x="2895480" y="4191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7"/>
          <p:cNvSpPr/>
          <p:nvPr/>
        </p:nvSpPr>
        <p:spPr>
          <a:xfrm>
            <a:off x="5257800" y="4191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990720" y="3260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990720" y="409896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2895480" y="3276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2666880" y="409896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5257800" y="3276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5257800" y="402264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riting Fractions in Simplest Form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the greatest common factor (GCF) of the numerator and denomina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de both numbers by the GC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838080" y="22255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85800" y="12952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685800" y="21337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152280" y="3276720"/>
            <a:ext cx="1143000" cy="10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152280" y="4305240"/>
            <a:ext cx="1143000" cy="157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x 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x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x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2362320" y="3276720"/>
            <a:ext cx="1143000" cy="10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2362320" y="4305240"/>
            <a:ext cx="1143000" cy="157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x 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x 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x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962520" y="3200400"/>
            <a:ext cx="2666880" cy="36828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:  1, 2, 4, 5, 10, 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3962520" y="3814920"/>
            <a:ext cx="2666880" cy="36828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8:  1, 2, 4, 7, 14, 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3962520" y="4424400"/>
            <a:ext cx="3124080" cy="36828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on Factors: 1, 2,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3962520" y="5033880"/>
            <a:ext cx="2666880" cy="36828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CF: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4038480" y="571500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divide by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1676520" y="137160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ok Antiqua"/>
              </a:rPr>
              <a:t>÷</a:t>
            </a:r>
            <a:r>
              <a:rPr b="0" lang="en-US" sz="6000" spc="-1" strike="noStrike">
                <a:solidFill>
                  <a:srgbClr val="ffffff"/>
                </a:solidFill>
                <a:latin typeface="MS Shell Dlg"/>
              </a:rPr>
              <a:t> 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1676520" y="211788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ok Antiqua"/>
              </a:rPr>
              <a:t>÷</a:t>
            </a:r>
            <a:r>
              <a:rPr b="0" lang="en-US" sz="6000" spc="-1" strike="noStrike">
                <a:solidFill>
                  <a:srgbClr val="ffffff"/>
                </a:solidFill>
                <a:latin typeface="MS Shell Dlg"/>
              </a:rPr>
              <a:t> 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2895480" y="166068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ok Antiqua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18"/>
          <p:cNvSpPr/>
          <p:nvPr/>
        </p:nvSpPr>
        <p:spPr>
          <a:xfrm>
            <a:off x="4038480" y="213372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4267080" y="121932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4267080" y="196524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21"/>
          <p:cNvSpPr/>
          <p:nvPr/>
        </p:nvSpPr>
        <p:spPr>
          <a:xfrm flipH="1">
            <a:off x="5638320" y="20574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22"/>
          <p:cNvSpPr/>
          <p:nvPr/>
        </p:nvSpPr>
        <p:spPr>
          <a:xfrm>
            <a:off x="7086600" y="17208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st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03:19:44Z</dcterms:created>
  <dc:creator>Josh Hammond</dc:creator>
  <dc:description/>
  <dc:language>en-US</dc:language>
  <cp:lastModifiedBy>Home</cp:lastModifiedBy>
  <dcterms:modified xsi:type="dcterms:W3CDTF">2010-11-14T16:31:58Z</dcterms:modified>
  <cp:revision>11</cp:revision>
  <dc:subject/>
  <dc:title>Equivalent Fractions</dc:title>
</cp:coreProperties>
</file>